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dt" idx="9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 type="ftr" idx="9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 type="sldNum" idx="9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855E-35EF-403F-8004-4C90B786E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I could give 12 friends one cookie each; I could give 4 friends 3 cookies each…  This is actually a Marilyn Burns ques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E36E-4DBF-4EE3-96E0-B21E72B62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:  Click on the slide when you want to go on to the next problem.What about the remainders or leftovers?  You could print this slide and slide 4 out and assign to small groups to model for whole class during a walkabou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7400-E513-49DF-8C9D-12A5A9C6E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he remainders or leftovers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ED6F-3FB1-44D7-B0CE-7D7AA5D64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counters to model then make a pictorial diagram in your jour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4B0F-8794-422A-8AD4-AB5FBEF0A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last one, make sure kids are using Becky and her friends as 7 people.   Use counters to model each one then draw a pictorial model in your journal of your real counter mo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1AA6-4E5A-4729-B298-FFBA42A7A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, the remainder is able to be shared as well.  You could discuss this, but fractional parts come later in the time l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032A-3EBE-4882-80CB-53965C01D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392F-1AF5-4E09-BF1B-599C0038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155-A83B-4329-B922-6CBE2B86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6B32B-4197-4C49-BE76-2B2ACF72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F6591-F3F8-4798-9FF3-095DA496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186DD-2501-4E69-B788-BED851E8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0F255-878A-4AB0-8EFC-FE469CA2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DA50D-03DB-4501-833D-0B3AE497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C5598-5B64-4CA4-8DDF-E2313F12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4331D-D987-4DD0-8254-FE17C24E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40A8E-9273-40C9-9691-4AEFF020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574092-38CF-46BB-B7EA-BAA1CABF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130B6-2354-4F42-8871-8E9460C3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474-399D-40F4-AB39-C30EFA66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C8B1F-4351-4BC2-8D0A-85CEB58C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2F6A6-BA95-4BD3-A39E-6CF66D56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245F4-9235-4284-A87F-DB0AA07C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502D3-256B-42D6-BA02-8A72608D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163EE-3B15-48C6-91CF-9CF1C3C2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71705-0582-40F2-AB77-CE192B52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05236-DD18-40C0-8B61-0F24C2BB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763DB-3AA0-47D8-8F2C-8DCC756B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9ADE3-1B8A-4408-813F-A316111B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A4CF1-46A6-49A9-BD89-8685D0C3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5A3-7D85-4294-B221-E31510AE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5A625-6079-41FD-9C16-47B62E6D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73608-5486-41BE-9A8C-1CA8E31A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BE7EA-A7FA-4E59-9D02-F95E91E9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62C8C-07E1-4FD3-B3DD-59B8E527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D2365-7EA6-4B16-B1D3-DBADF7B7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66BA8-1E58-48BA-9003-67818730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8F13E-80C9-4068-A9F0-5AFBAB2F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1B2B1-E0EF-4B4D-B4FB-936E8861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87D29-8827-4AF5-A158-0BAA7428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CC7B9-0506-4F66-8DBB-CB1AA397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2261-E020-4FB9-947C-905562A7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756FC-6211-4544-9CAA-7EAA6911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E66BD-8282-4B04-A181-EBC74160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C2ACB-FC2F-4EAF-BAF6-CA04D965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3234AA-E1EE-4276-B51B-F34412D8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CEDE9-5A9D-4DAF-90DD-44A26581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E6346-3B42-430E-A618-F3B57167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C4DC3-22BC-4471-8C69-B5FAD791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9D4844-5031-4313-8CDA-06E45CCC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7389C-6868-4666-9B0A-A82149BD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C502F-EFC3-4961-9DAC-C2A4B66F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2D03-09D1-4503-B649-F72DBE21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B6240-28F6-4440-9DC5-789D1816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B4239-6231-44F6-B79C-B48CA9CD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F50A8-D4A8-40CF-B5F2-4CDF325C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FFBAD-9956-435B-A884-4EE8C930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6484A-4AA1-4E04-AC73-5EA69556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D3CD7-A37C-49B9-9FFB-56DEDA68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C75C4-B800-4473-B003-E5AD2B2D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BC43F-1F64-448C-A061-0F6138D4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BF547-F65D-4E3E-87E6-51C6EC95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26A3D-7E1E-45ED-9B24-A81FDDB0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936F-791A-4AB4-A964-669EFBD5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0EE1B-0FA3-432A-A16F-4573D4B7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8A9F0-E7AE-4101-9C7B-E0DBED85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FDAC6-AAFA-4BA8-9199-6A7F9523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6E494-978A-461D-BA49-225918D6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B711DD-7E96-4B37-8992-FBAFB6D2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D905B-4AEF-4D0A-A672-3B786EBC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8F5A9-E4A1-410D-A101-F32BEEE1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CF341-C816-45C3-A6B9-6C1D395C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9749E6-A9B0-426F-A83C-E26B0EB8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99367-7FAC-4E96-8CE8-9CB98FE9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AEDA-0B1E-4899-B822-664094B8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F0BF91-21D3-4089-84D1-4D925C2F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616A6E-7483-463A-BD70-2F14BD7E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FC0F47-95D1-4395-8D62-32F8ED42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73A2B3-599C-4A3A-A026-76620C17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3CE412-C62B-4078-AB3A-3893F915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E97CEC-BBD2-4903-8F5D-3DF2AB54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D0B29A-2797-446D-9750-5583DB09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AF1535-D66D-44A0-BC42-6DFCE7AA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926E6-9DA4-4DE0-A180-8296D940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A9581A-61F5-4101-B4D3-3B79461D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659E-BEE0-4B48-9983-DDE8A62F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FAC034-27B1-4CC0-B139-57FF705E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906F9-7E2D-4F21-8EB2-76058C5F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C94439-D883-4127-9810-C924695D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012AA-62DD-40C1-AC67-D55EB514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CBA820-238C-4135-8053-DE502C6E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706D93-81B1-469A-B778-C54DD2A9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7BC48-FEA6-49BA-8505-0EA5A3F4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B15BA3-1792-442F-9F2F-40CD5698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126E9-A654-4143-92FE-36C2219A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87A822-4CA9-4264-80BE-5E462FBD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F33F-CFF3-4EB1-80C2-F92E8FF7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1CAD0A-FB68-4F00-99B3-FD7283F2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EEDE20-433C-43D4-A785-A4D9D899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0B91DC-45CC-4278-9DBB-AD257310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CE424-3ACE-43B2-9665-78B0F5C5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A190AA-A8E4-4F48-8A3D-8106E083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0DB05-0966-4646-B803-5B7AF1AA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9C6C6-EA50-4BD0-BDA0-68AA9DB9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122F7C-021F-492F-B0DD-22678004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CD2E58-B4F5-4A03-A71B-D52738AD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410F73-AA82-4F11-8574-AA0E1D50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2BCE-0574-4527-8FA8-32279C53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5823DE-B531-403D-8BBB-9D7FAAF2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418B7F-0F37-405B-9A94-135EB819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5892E-3DDE-4169-8707-962AEE20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47157-D1B8-4F2C-A9B4-7D431D92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5037C3-EAB3-4E59-BFB7-8C675951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7526B-4C76-4E94-9104-1F15A9B5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6D0B1B-2754-4932-89BD-C16DC544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C714B1-9F5B-4516-84C0-DAF798B5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C8A44-E6BE-4473-94A2-47F95704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9CABB-3CD9-4D9B-A065-93107A74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7D1E-6375-4BAF-B12A-208AA80A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FAAE-45C6-4CC1-B734-ECD834C3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9DBEB9-A22D-4DD0-A540-5941E119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9D8489-B45D-407A-8346-603B2886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6A99F-F7B2-479B-B31D-BB4DAFDC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87283F-373F-4157-BA2C-7767905B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351E52-11BA-47F0-8C46-658AAEAB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7F0786-8CDD-42C2-AFE8-194910AFB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9CC612-4761-4670-B18A-090E698F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9B4D0D-97D6-469E-B568-49A1B21D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9E775D-CDA5-45A1-A77B-74E1B7E1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10D11C-91ED-4850-AABE-38F3E17F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FA58-586A-432A-954F-AEA4152D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D4879-5936-46D6-92D7-2EC9D06C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BDF6B-3AEF-4407-B687-39D942C0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CF5E70-67D5-4DB6-8FF3-FE62CA0A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4D313D-FB45-41A5-846E-3902E057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2F2071-1948-40EF-B08D-CFAC8385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E32ED-1929-4012-AFE6-DC0E5AE1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AC6649-EC2F-4FA3-B50B-D7829282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9C7C04-F23E-43DF-BEB6-411196CD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A194AB-F57E-4D3A-8955-5A0127EA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B8B0D0-AA7E-4A0A-8FD8-ED9B0B0D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D561-CC5A-4B95-A9D7-679E7BE8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A91EAF-50DC-46EE-8488-AED67561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8180D9-8E32-43B9-A78D-D29C98D7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2BDFF6-8C87-4361-89DE-E6A870DC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BD5E92-FF21-4A9E-990E-827CAA8B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DF925A-411F-4022-B721-81CC1861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458D5E-6A38-4D16-BC81-60DC1773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3A8729-7007-4E1B-A2F1-BA22F8A9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0C9510-A998-4AEF-8674-A8FBEA83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4E3DB7-A1E8-4E79-8E01-5E6ABAAF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28AE87-710C-439E-977C-4757B16C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D3CB-AAFC-4507-A271-97F772DF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E65A1-73FB-4EE5-B5AA-8F00EEFD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F11F84-6606-445F-8F7E-AD54034C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C9CFF6-7255-4E81-B924-AF81F5BE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7FBD1C-48AE-4D60-BD1D-FB6F655F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17F9A4-D810-44CC-B9BB-5A233598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0D2487-DD30-4645-AEAC-773077DA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5702F9-9901-45E8-8A24-FD9DE37D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E9D3F3-06B0-4535-BA05-1714CC58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21EDED-51B9-42B4-AF06-E6D4F6BA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F79DBF-DFB0-4294-8CFD-E6B95A57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42BE-169C-4B3F-844C-C61CFB61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E4F425-63AD-4AEA-8C19-41AE684A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3FDC54-10B3-4AD4-81DC-C1071CBB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5A1F4E-BB27-449A-8629-857B14BA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B73E33-BFCC-4D6B-AF86-F9566A39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9AF335-E3F2-4BFE-B499-A2503DA1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773DD8-636F-4866-998F-B3D192E4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4D9E24-DCB4-4883-A2CD-082C3B47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9F7289-89BC-41B7-B9DC-9ED3C942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A8048F-BDF8-4A81-92CA-3C816FD7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A8B62A-BD2D-4DEA-B8A0-FA8FE412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13D5F-873B-41D5-9FC0-3C6C71A5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D2C472-F78D-4CF2-8A20-52D38BAC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475F8C-E074-43D5-AAF2-6CC4A8CF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B09529-2456-47B6-BCC8-CDFD3AC2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FA16E0-F0C3-4AFB-B2AC-EC54B163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06FDAC-56AE-478D-9FAB-E4CDF95D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8CC41E-9771-4966-BA98-3DD792B4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24A989-62D9-48EE-B63E-5B3F4387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10E5F4-F7A1-4CB1-A490-810F45B6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A076CE-DAA6-4FE1-A834-46779077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F21AF5-5C55-4AEC-89A9-6F3753C8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0CD36-F1F6-4D06-B9AB-3E98876D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83477B-DAD1-46D1-A1E8-B3A863B9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08A105-506D-47A5-A2A1-A2440113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561EA9-4ED9-47F0-A425-CB6EE9D8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A081E0-950A-4D64-AEED-1ACA7C66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FC3B0A-9BBD-4AA6-9BB5-EB110A47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01BE1F-1C4A-4F23-87DE-68D482F2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9ACF98-DFDF-4912-9FDC-AEE7C2F4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EB9784-D63C-4A34-ABAF-F72874EF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B038E2-8139-4F6F-A471-8ACD665C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9EA1E2-4EA7-4B45-8357-7062F4CE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2E9D4-90F0-4D96-A2AA-35C73916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3E5EE8-B92E-48A7-A2A5-9C02F64E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147166-06C5-4BBF-A75A-2B6EF3AB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8DB542-ED5B-4509-96C7-150A58A4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3FF923-39FE-46AC-907A-47FBCF7B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EEF74D-64E7-4C99-B686-44B523B9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1946CC-4140-46ED-ADC4-15702F3E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82E72A-2E5E-4DE2-B938-E3B2987D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20C489-511F-45CD-86F7-7E0E7333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F307CF-8A3F-4866-AED3-8305DA07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530328-F6DD-4386-A772-6EB2BB15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95F79-BF0F-4129-B47D-A7E3CF75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38679F-71C8-4781-AA86-ACB02429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E8B7F0-E76C-42BB-B8F1-45AEEE6D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071A38-B902-484D-8971-7EB4E766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271487-69F2-4FAB-8B0D-4E69E97D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24277D-9C3C-47AA-A37D-D8835D32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44583E-67FD-4C7B-B54A-EBE66576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61D9EA-9A5A-4FAA-858E-CBBC6023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D3ED13-F9B3-48F1-BCD2-3958978D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B77DFC-26F8-4F9E-A1AE-181D8231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DA8387-9FD9-4A30-855F-A3C0947E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AE47C-8401-43C5-82D8-9D181CA6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8BFAAC-1687-435A-ADBA-058C1B8F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ECCCAB-7A05-40CA-8430-41DEB5B7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D59220-D047-4786-A513-87A1D2DC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8E452E-CBB6-4E63-9E14-E5F9E031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C2013E-8A86-4698-B7F6-E029FC6B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31E447-C475-4FF2-99B9-255A640B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EB3E8F-5654-4E89-800B-F507B8AD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21AA60-A27D-4A88-BCEF-63BE6A47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D6DF04-909A-4DF2-972F-EBC83B7F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B4686DD-025B-47CD-8DF1-7A8E3209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533-0711-4B88-A0EA-007A2562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E3294-FEE8-48D6-8DB8-B3A0D351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976C16-FA81-493B-BEC4-BE7AF726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3DC832-9100-4AB6-A730-14469759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104B38-BF2B-4208-ABC4-4E492A91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D62BB6-008D-436F-8B4E-9DD3F625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BBF097-0369-4D4C-872C-EBC5AF6D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66EA66-87D2-4C5A-AD47-BF7BC9AF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771AC8-93A0-4994-8865-3370CEE6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BB2871-0BCE-4C5B-B86C-B467EED6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F30959-2A8B-4ECE-98FB-5BDFA202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05A242-2F4F-4FD8-BCA5-2E5BC6AB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1E3E7-BCA6-4F95-A7D4-D1BCF55B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3B5181-3867-4748-A4BB-8A94A832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D6D80E-D606-460A-ADD2-60081583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3AAA7B-1CBE-42DF-A9E3-258BAB9E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463B10-D55B-46EE-9718-3CFDFC20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5EF07C-4657-416F-8DAB-4F8DB5E6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0E010D-3400-4207-A7A1-125D35D2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72C839-1EF6-49EF-B8BE-9DDBC49E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57107F-601C-4B0E-B677-C1E28746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31CDBD-1661-4E34-9AD6-7DCC1DE4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131567-6ABB-4B85-AFF6-13A6DACD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39D1-C01C-4550-8EF8-A60BDAA4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0971F8-9378-41F7-9291-D3B66890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2EFD41-8D1F-48BB-B4A5-FB127939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4CD6ED-94FC-464B-BEA1-792DB92A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473AF2-BD7D-4BA1-8909-B037140D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788676-1379-463A-ADA9-C8688AC5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1C7ED7-7312-4B34-9F0A-55DDD9C9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F32ED9-C404-4320-BAD6-F2ACA9B1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C983C3-29B0-40F7-8A1A-1598CF76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7F4B58-C65D-469C-BD13-122665EB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FF1FE4-5A67-4C4C-B95E-E5FB3F0D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9E30E-122B-453C-B095-337F5EA4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99E207-2B16-4D07-BC7E-66711BB4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79A6DA-661F-4180-90D7-4AEB8A41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82633E-D9BD-49FE-A523-BAC8F7E6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AB8280-40A6-4B56-A209-1E413E13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462F96-87F3-46FE-930B-6A3FBF7E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F7E212-B7AF-43BD-98E8-AFD9F541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3677E5-606D-4A8B-8326-11486923E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97B062-7B1A-4D06-ACA0-2B00F629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A65F86-4887-40F7-BC73-A205A30B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B5F09A-7532-4282-A529-EF657853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F7FE1-A3D2-452B-BAC8-0C3C44BB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906924-9306-4BFA-BFFB-C1421565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DE68B9-81C6-441C-B74A-7635C5ED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938D51-28D7-4006-AFAD-A4C4E3CF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2BAE06-9BDD-4294-9599-DDEF8F62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666F29-6666-4695-AA7A-4AB5D26D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426F88-8569-4688-BB80-02299A14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21A6E3-C13C-4450-B3F3-D5AE2EE7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3BCB18-8226-4FB6-9D04-F92FEA65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6FA8DC1-D92E-44B4-8E3E-9540922F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624C95-EC8B-43F3-94AC-9CBF3756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27719-3371-482A-BD83-C0169A089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C55E26-41D0-4ADC-A30C-F2C7B5B1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AE82BA-7E64-49DC-B0FE-C0B81A0A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12C405-1BB0-4BE9-B799-A6CEE2C6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4C2505-A5B1-4C4E-97EB-DB774678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56F1D6-3E74-41C2-B34E-E221835D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3559B5-2CBB-4727-8489-99B55F5E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297013-EB48-46FD-86DF-D43FBE1C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4C8437-8D1B-493A-A25B-50DA7CD1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C93853-877B-4748-B391-BD1250C2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FFD0FF-1FAB-48DF-A44D-F0DB46E7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72494-3316-49D9-9E72-FA21F1CE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06BF2B-AEA5-4BE1-8763-421F0E1A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C9FB7-8B0E-4934-8C4A-8252F647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5098A-5286-4B3C-9379-DFB3CF95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5B15C-A09A-44B5-B0E7-CED42F12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9F12-3B2C-451E-8625-FBD94327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EEFE-60FC-4573-B0ED-E050DB66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3364-8AC6-4E9B-ADD5-2D311F50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659D4-92DE-4ADF-849A-10DE637C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35606-4C73-4435-8A65-FC94E523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A2CF9-7C18-4924-9F59-06201375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C4A62-9357-4DE6-9241-1CB172BB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F5DD1-A100-4ADC-80E3-8675871D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2E559-7E58-44C0-84B1-CB41D17F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1AA04-918C-4C92-9586-0575D926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C2FC7-1437-4493-8365-CC7E9D89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43C0-31EA-45F1-8339-AB4ADA8C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1179E-6BD2-4821-B70C-0AC9D58A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70E25-7FA8-4DD1-B820-B90F4356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27DBF-1EF9-4E35-90CF-3A7E9DB6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11493-5652-4FFE-9CC7-2F031C13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82F5F-69E8-446C-9D32-3EF27FB4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3B6B4-F103-4F46-8779-7103F0E6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A90B9-BB95-4FBF-A05B-86630274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66D08-0A1C-495A-A3AD-FABE4BE7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A6957-AAC2-4486-B8E1-09CFB4D3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4A028-B292-492F-96AC-06AE28D7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60D-5AC3-4835-8CB9-25739F19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F362B-63F5-45AD-AC1B-DB298552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C758B-625F-4CBD-A2F0-283AEB26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EE1E2-D9E5-4A39-ABB9-B62BA67D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25547-213A-4FF6-9512-D51BA606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F3E32-8405-4362-9186-4F06C028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A7C02-2323-47E9-88C3-D602DA43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0DA57-DEE9-4E30-8C44-FA0CB17D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BAA15-A7C5-474F-8623-130E8BC3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E2573-F4A8-41AB-B098-55CCFAC0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9C65B-0242-4710-A7E2-7B1527A1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C09-6BC2-48A9-9F06-93E6EF21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51A86-8E6E-4D84-82BD-20A1300F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2FFD1-3374-4287-BE15-6ED33196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58973-5185-49AF-8033-1ACAD3CD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69B2A-0EAC-44CF-A0CA-0953CB34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0E2F4-ED67-4A79-9F97-474B717F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C54DD-29E0-471A-93DC-CA8ABF7D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60686-B0AC-48A9-AC94-83DA4020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78615-1DE8-4067-9DC1-86BF37AD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D1B75-3EB1-4F56-B716-0D91B3EF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A3632-B775-4DFB-A128-BEC7EC38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10AA-8776-4C67-83C9-02D6EBBC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55B8C-64FF-4ECB-AA5F-41F84FC5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48C7C-9FA5-4055-BB7F-95DD6A51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ACBE6-04FB-4435-86C3-16D25F79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DF65B-EB49-44F0-8A93-F1ACCCD8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B1831-2CB6-4313-840F-E5EEA083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29EF3-245F-4D47-9CA7-FF452C11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2FD0C-AD12-477E-B094-AB2EC9F3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9BF65-131F-4A3E-872F-B6F1C33A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39965-96A6-4263-9D1D-953925FF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A05EF-BEDA-47C0-913C-41FEFA8A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F569-8925-4E2C-8DCF-D44AAFCD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982A7-FDC9-4A1F-B457-04E2B7C5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44839-10C9-4C83-A9BD-C9FD16BE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BCBB5-2909-4DEE-AF82-58C1E2F4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AD066-76F8-4B66-8B16-9E9555F3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D7B2C-7C03-4329-A82B-41140D9D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0DEE7-5381-49FE-8F1B-7AD402AC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F7CC0-3CFA-40A6-AD18-8FD3FE72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7435A-C392-4A58-8927-83468514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02CF6-5DC0-4ABE-BC0E-54F53E3B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52642-53DB-4CEE-965D-D2E48D5E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B516-1343-4DFB-AC91-6BCCF02F4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6451-099B-49A7-B427-43CC71590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2AD1-E2D5-49A7-B116-9CE4CA2CE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58C9-2265-4175-A147-9048E6D46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84E6-4780-4917-9357-6255CDDBE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B2A6-CF0C-4C7A-9485-ABB10F154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F6C4-CDAB-4F02-B388-F7B34A1A1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9815-6613-4753-8DFA-CB7F6701C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6D98-F549-4555-99AC-0B299D856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BCB2-15D4-42C1-B7F7-8C2BE06B6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28B2-DEA6-4537-9293-4019F09C8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24C4-768D-4FA1-AB5D-7E08A7324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120E-AC85-4273-BC93-2DC27013B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D363-7A19-4C40-9333-1AD90012B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E655-93C6-4553-BBA9-3EFCD2BB3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9DF1-A9AD-4557-A140-8464EB8F2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B36B-B417-4BAA-B8CC-C8FE40F15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9A6B-208B-42EC-A5A6-F713F7CDE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A8B9-5503-4412-829B-3506F48F11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1EEA-638D-42D7-A4AD-5F5BC4C7A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C4E4-FC53-4546-8CA6-E66C16E954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1714-AD49-4EBD-BA8C-8CD11AB839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1D8C-54DA-4034-955D-1082EB848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F810-DE82-4639-9551-4547D4DC292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B8CB-F01C-402F-B823-1132F1719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F9EF-7034-4E84-BD10-89588272A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469E-384D-4028-9814-4175A6B9F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16E0-2FA6-408B-8C04-6132C02B4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69D8-52F5-4B72-A2C2-CB334DE66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A5D9-0E4E-4A8F-89B6-33EEF0E5A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Division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if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f you had 12 cookies to share equally with some of your friends?  How could you share the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0" name="TextBox 5"/>
          <p:cNvSpPr/>
          <p:nvPr/>
        </p:nvSpPr>
        <p:spPr>
          <a:xfrm>
            <a:off x="457200" y="3276720"/>
            <a:ext cx="83059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se Real Obje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gela has 24 pieces of paper to hand out for book covers.  Each child needs 2 pieces of paper to make a cover.  How many students will receive paper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renzo has 15 pencils.  He is going to divide them equally among five of his friends.   How many pencils will each friend get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se Real Objec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enty-one books on the shelf.  If each child takes three of them, how many children will get three book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eight bottles of glue.  Each table of children will get two bottles of glue.  How many tables will get glu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hat can I use to model this problem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sa collects stamps.  She has 28 stamps.  Four stamps fit on each page of her book.  How many pages can she fill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 the problem her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Use a model to solve these situatio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57200" y="1599840"/>
            <a:ext cx="8153280" cy="5257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y-six boys and girls signed up to play football.  They need eleven players on each team.  How many teams can they mak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een children are in line to ride the ferris wheel.  Three of them can fit in a seat.  How many seats will they us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en can you share a remainde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457200" y="1599840"/>
            <a:ext cx="40384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7 kids playing at recess.  They must share 56 marbles equally.  How many marbles will each kid receiv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4648320" y="1599840"/>
            <a:ext cx="40384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3:51:02Z</dcterms:created>
  <dc:creator>Round Rock ISD</dc:creator>
  <dc:description/>
  <dc:language>en-US</dc:language>
  <cp:lastModifiedBy>127ramirezc</cp:lastModifiedBy>
  <dcterms:modified xsi:type="dcterms:W3CDTF">2009-11-16T14:56:27Z</dcterms:modified>
  <cp:revision>16</cp:revision>
  <dc:subject/>
  <dc:title>Beginning Division</dc:title>
</cp:coreProperties>
</file>